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7917-D3C0-43CF-BEEF-2C294715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F13-401D-4B95-BD1B-176720B7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C3A-6C45-481A-9C21-71C10C85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E59-55C3-4A80-9F34-82421250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54B-540F-4AA3-BF11-5442A2D7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39E-2510-4045-A9B7-1872FF23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B56-7280-4B2A-8653-785838ED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A01-4217-407B-8390-1BE5F851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B943-38F7-4C9E-9C72-68826687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E59-4B82-4D4D-B5D9-0F82E9EE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AB93-D54B-45B7-8665-52B9469E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939F-FE88-4B04-B8F5-1FB80C17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7EBC-1B27-4E8E-A192-3E59CFDC2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3 Hľa, blankyt neba modrav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ľa, blankyt neba modrav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mračien náhle čierňa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z obzoru sa vynor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sláve Tvorcu hovor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dňu i tmavej noci no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 nekonečnú Božiu mo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mocne bez slov, bez reč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nepochybne dosvedč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hviezdam dráhu vymer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 zvláštnou krásou priodi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jeho lásky obja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úč slnečný ju pozlá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každý človek poznať sm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e Božie skutky úžasné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 jeho veľkosť pozná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a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k človek reč tú neč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rozum svoj vždy zbožňu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rady, ktoré Boh mu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často hriešne zanedb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ova prosiť chc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, nech ťa več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ť smi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, vinu každ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mňa s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mojou Skalou, Spasení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03:01Z</dcterms:modified>
  <cp:revision>29</cp:revision>
  <dc:subject/>
  <dc:title>Je veľký náš Pán, on slávy je Kráľ Nech do všetkých strán  spev vrúcnych znie chvál.</dc:title>
</cp:coreProperties>
</file>